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963-4B58-4FC4-8E5E-B9C08C9D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68C-C3FA-44E3-A653-87FF9287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DECF-79D5-46BB-A63B-36B5ACE4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AA9-3522-4A01-A8BE-3433EAFF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297-FB3B-4843-988B-CE33C6A4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2941-6FC3-4E55-AC34-023671A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129B-F52F-4A16-B7CE-68B9480F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45F-2FB4-4272-8B6C-8D9A334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73D4-DC5E-4593-83FE-A83BE751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82EF-6AE0-4CDF-B0E6-FF2539B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6399-5825-4E08-8395-17B12416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72C-5F0E-4FB5-AEAF-E3EC1313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F91-E183-4BC1-8F0A-5DB950C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65A-F622-4B99-B25C-0288591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CC34-AB36-4719-B21D-DE3B1C0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7B93-9610-4363-934C-725C13C4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8C1-C455-4925-A799-0D5EEC54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96D-39AC-467C-AF00-9F11A42C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1E4-B2B4-4895-968F-82CADF8A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09E-B35C-44F1-8543-8344619F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36A-2E97-4E12-8868-029E525B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BEA-C983-4D21-B1D1-0D73003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BDC-AADA-43A1-942E-4A25145D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C98-F83F-4B5D-A133-FF576093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C4AC-8592-49F6-98A1-58866E59D46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3B18-8EB6-410F-B143-8A7A50DDE8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ETODA BACKTRACKING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4059000"/>
            <a:ext cx="58672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ws16</cp:lastModifiedBy>
  <dcterms:modified xsi:type="dcterms:W3CDTF">2012-06-19T11:04:52Z</dcterms:modified>
  <cp:revision>32</cp:revision>
  <dc:subject/>
  <dc:title>SALARIUL</dc:title>
</cp:coreProperties>
</file>